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B789-9802-43D7-A01F-EBBEC17D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4F9D-4FBA-4FE0-A095-A1418D31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7CB6-932F-4867-9EC4-95E44113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B2ED-9540-45F1-9E7D-4649C11E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3362-14BD-4A06-8D27-1B90A7D8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AC4A-EADA-4BFE-A616-BD93FDB9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7E06-F251-4FD9-B3C4-6C8BACEA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C9EF-013E-4109-AE67-738034AD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AD4C-BA47-43F6-8F53-77A8D70A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F94F-7D6C-49AC-B8F8-A3853254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0E8A-562C-4821-8505-4F58FF5E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70EE-487A-4EC8-BABB-226BAFF2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90E1-FF7D-48F5-93E5-5FAE2C592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0.7 x 7000 =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7240" y="1050840"/>
            <a:ext cx="77724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                     </a:t>
            </a: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x  =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9651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luosi digid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61460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ymharu gyda’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westi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220356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                </a:t>
            </a: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0.7 x 7000 =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48000" y="148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27640" y="148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00720" y="148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213000"/>
            <a:ext cx="77724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0.13 x 0.2 =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7240" y="378792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                        </a:t>
            </a: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x      =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37018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luosi digid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435132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ymharu gyda’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westi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494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                </a:t>
            </a: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0.13 x 0.2 =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22100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422100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5280" y="422100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32000" y="9079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00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 80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692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1197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1181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9079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2781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0.52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 0.4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2565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.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37080" y="30700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1280" y="30542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27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4437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0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 0.06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422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37080" y="47260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08360" y="47102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.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4437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21:33:51Z</dcterms:created>
  <dc:creator>Betsan Wyn Thomas</dc:creator>
  <dc:description/>
  <dc:language>en-US</dc:language>
  <cp:lastModifiedBy>Betsan Wyn Thomas</cp:lastModifiedBy>
  <dcterms:modified xsi:type="dcterms:W3CDTF">2007-09-17T21:51:36Z</dcterms:modified>
  <cp:revision>3</cp:revision>
  <dc:subject/>
  <dc:title>0.7 x 7000 = ? </dc:title>
</cp:coreProperties>
</file>